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F1D-B6D9-492A-A9E6-1EFBAC27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C0A-DA57-4B6A-8F09-96CB0FA5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AF2-C2C6-464F-8D15-E0B6D448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809-7945-47EE-92B7-61E38F26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C47-BAAA-46E9-8089-0A85D87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77D-5990-4755-A07A-72E88D4B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152-1567-404E-9374-BF2B0349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C20-75DA-45EC-87A5-2B81EE2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8E3-06E3-4F88-A3AF-33EEFF7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415-1CAA-479D-9859-D3A941D2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0ED-E021-47AA-9855-6BB6300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5C0-6F63-4F74-B7CA-3480D7C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84E-1114-43D8-8F83-9BED5E77F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380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Script MT Bold"/>
              </a:rPr>
              <a:t>La Casa Para la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562360" cy="32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cript MT Bold"/>
              </a:rPr>
              <a:t>La casa esta localizda en Hull, Ma,                  Esta en la calle 138 Samoset A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C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$7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191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cript MT Bold"/>
              </a:rPr>
              <a:t>(El patio tras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441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ce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Tienen cuatro Dormito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1600200"/>
            <a:ext cx="3581640" cy="1968480"/>
            <a:chOff x="609480" y="1600200"/>
            <a:chExt cx="3581640" cy="1968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35816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609480" y="1600200"/>
              <a:ext cx="3581640" cy="196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2648160" cy="172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3733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El Dormitorio Principal es muy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El Dormitorio es fabuloso y 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733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5053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El dormitorio es nuevo y tiene dos ca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El Dormitorio tiene una cama grande. Es verde y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Script MT Bold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Tien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no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Comedor, perro es mu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rande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4724280" cy="3143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43600" y="3200400"/>
            <a:ext cx="28954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h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refrig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freg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a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to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li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Cuartos de ba</a:t>
            </a:r>
            <a:r>
              <a:rPr b="0" lang="es-ES" sz="4400" spc="-1" strike="noStrike">
                <a:solidFill>
                  <a:srgbClr val="000000"/>
                </a:solidFill>
                <a:latin typeface="Script MT Bold"/>
              </a:rPr>
              <a:t>ñ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cript MT Bold"/>
              </a:rPr>
              <a:t>hay dos baños en el segundo pis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cript MT Bold"/>
              </a:rPr>
              <a:t>                    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Script MT Bold"/>
              </a:rPr>
              <a:t>y uno en el pri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2705400" cy="1685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05320" y="35053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La casa tiene tres cuartos de 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352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cript MT Bold"/>
              </a:rPr>
              <a:t>bañera, fregadero y lav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49528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cript MT Bold"/>
              </a:rPr>
              <a:t>bañera, fregadero, shower, towels, y lav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6019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cript MT Bold"/>
              </a:rPr>
              <a:t>cortinas, bañera, y gabinete de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b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Script MT Bold"/>
              </a:rPr>
              <a:t>Las S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86200" cy="273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191120" cy="271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cript MT Bold"/>
              </a:rPr>
              <a:t>Las Salas tiene </a:t>
            </a:r>
            <a:r>
              <a:rPr b="0" lang="es-ES" sz="2000" spc="-1" strike="noStrike">
                <a:solidFill>
                  <a:srgbClr val="ffffcc"/>
                </a:solidFill>
                <a:latin typeface="Script MT Bold"/>
              </a:rPr>
              <a:t>sofás, lámparas, alfombras, sillas, cuadros, radios, ventanas, y un venti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Script MT Bold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715000" cy="428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48520" y="1523880"/>
            <a:ext cx="228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Script MT Bold"/>
              </a:rPr>
              <a:t>El comedor tiene una mesa, sillas, platos, cubiertos, servilletas, y cuandros</a:t>
            </a:r>
            <a:r>
              <a:rPr b="0" lang="en-US" sz="2400" spc="-1" strike="noStrike">
                <a:solidFill>
                  <a:srgbClr val="ff9966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El Garaje es Gran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4286160" cy="3314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32004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El garaje tiene el carro, y es muy gr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0292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Script MT Bold"/>
              </a:rPr>
              <a:t>ue puede contener dos car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4:25Z</dcterms:created>
  <dc:creator>brudnerkal</dc:creator>
  <dc:description/>
  <dc:language>en-US</dc:language>
  <cp:lastModifiedBy>BrudnerKal</cp:lastModifiedBy>
  <dcterms:modified xsi:type="dcterms:W3CDTF">2012-05-29T12:58:12Z</dcterms:modified>
  <cp:revision>4</cp:revision>
  <dc:subject/>
  <dc:title>La Casa Para la Venta</dc:title>
</cp:coreProperties>
</file>